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630-FDEB-4D36-BD46-3D49ADCA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3DB-B049-4AB3-B3BF-2CFB7BD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1F8-1522-4C93-800C-2A0C0F46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7E4-53E5-47AA-A016-9B4AD79C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00D-7A3A-4912-87DE-DA985230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187-59F0-439A-AC7E-AD15C5E2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CDD-3368-4AA8-94F6-7712B538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41C-DF4C-486D-B152-B7E7307D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688-EEE6-485C-BCB4-8532DA90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AF8-93EA-4EAC-9491-7CF938B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4DF-958D-406D-B8CE-FB45881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6C8-D753-4A00-9A21-B95DBB5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ED67-4D2E-4E4F-B895-DE147299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s 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ificant Fig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“Sig Fig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tool used by scientists when expressing measured data and calculations involving measu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3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s to the right of a decimal are significant if they are also to the right of a non-zero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447920"/>
          <a:ext cx="4038480" cy="5105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0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9.0030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07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5000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 that r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difference in meaning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is person might be using a map with a ruler that has a 10 mile s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0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is person might be reading a map with a ruler that has a 1 mil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00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is person might be reading a map with a ruler that has a 0.1 mil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4 –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e zeros are never significa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447920"/>
          <a:ext cx="4038480" cy="5176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456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15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230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8117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5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s to the left of an understood decimal are not significant unless a line is used (or a decimal is properly placed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76520"/>
          <a:ext cx="4038480" cy="5163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.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.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3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648320" y="16765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8320" y="266688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3809880"/>
          <a:ext cx="4038480" cy="762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800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648320" y="5867280"/>
          <a:ext cx="4038480" cy="990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a lin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447920"/>
          <a:ext cx="4038480" cy="5128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09480" y="2666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19047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1904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3733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7339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47920" y="3657600"/>
          <a:ext cx="19047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657600"/>
                    <a:ext cx="1904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295280" y="4724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4724280"/>
          <a:ext cx="190476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724280"/>
                    <a:ext cx="1904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71600" y="5715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5715000"/>
          <a:ext cx="190476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715000"/>
                    <a:ext cx="1904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Get Some Practice Fir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.1 k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,000 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.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.2 m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3 m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962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ing Fur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, at this point, any time a person on the street asks you how many sig figs there are in a number, now you’ll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ly, though…none of this is important unless you are taking empirical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data describes the simplest type of data – such as the length of an index card in cm or the mass of a kidney bean in 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chemists and physicists, this is what we’re all abo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Sig Figs in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stating that a pane of glass measures 9.92 cm on a side communicates something about the device used to measure that lengt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often times we need to know the area covered or the volume of the objec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ten, your labs will involve calculating some values.  There are some simple rules for manipulating thi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for Multiplying and Dividing with Significant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al answer must have no more sig figs than the measurement with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 of sig f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all measurements are in c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2.4 x 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890.4 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00 x 24.8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2488.7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9.9 x 0.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1495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87.9 / 0.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2197.5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5.000 / 7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5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6095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for Adding and Subtracting with Significant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al answer must have no more decimal places than the measurement with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 of decimal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all measurements are in c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2.4 + 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63.4 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0.10 + 24.8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24.987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0.0 - 0.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9.995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87.90 + 0.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88.3 (calcu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5.000 - 7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28 (calcula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8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095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m I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ust no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nding out about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 figs are important “tools” used by ALL scientists, but are generally not emphasized below Chemistry on the high school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y trouble their heads and Bio is not as quantitative as Chemistry or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 (the “Physical Sciences”) involve many measurements – among them time, displacement, velocity, moles, grams, liters, molarities, voltage, frequency, radius, watts, etc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s and Physicists therefore must present data in a manner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scient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Trust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Understan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vel of sophistication of the equi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was used to take the measu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th Teachers use this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speaking,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reason for that is sim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use MEASURED VALUES (taken from some instrument) and most math problems involve “counted” numbers. (ie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n the room? Not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all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udent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have a unit associated with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g Figs help communicate the level of sophistication of the measuremen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THAT’S WHAT  </a:t>
            </a:r>
            <a:r>
              <a:rPr b="1" i="1" lang="en-US" sz="8800" spc="-1" strike="noStrike">
                <a:solidFill>
                  <a:srgbClr val="ffff00"/>
                </a:solidFill>
                <a:latin typeface="Arial"/>
              </a:rPr>
              <a:t>SIG FIGS</a:t>
            </a: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  DO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a piece of yarn and ties a knot the length of the yarn each meter for 10 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meter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have to measure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ngth of the lab coun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ne MUST have a different answer – Ron’s will be less 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ut each will be “correct” if they “follow the rul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measur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measuring the same thing. Shouldn’t the recorded value be the s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le 1 –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on-zero digits are significa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447920"/>
          <a:ext cx="4038480" cy="5176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456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00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5.7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8117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48320" y="144792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251460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s between two non-zero digits are significant (the “sandwich”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523880"/>
          <a:ext cx="4038480" cy="5457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5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1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3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007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15238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Number of Sig F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8320" y="2590920"/>
          <a:ext cx="4038480" cy="10303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48320" y="365760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48320" y="4724280"/>
          <a:ext cx="4038480" cy="838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48320" y="5638680"/>
          <a:ext cx="4038480" cy="9144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andreskim</cp:lastModifiedBy>
  <dcterms:modified xsi:type="dcterms:W3CDTF">2006-09-05T16:55:37Z</dcterms:modified>
  <cp:revision>53</cp:revision>
  <dc:subject/>
  <dc:title>Significant Figures</dc:title>
</cp:coreProperties>
</file>